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29764-44CD-430F-BBC9-A3B864611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9495C-D2F5-40B8-B5C3-37CC1759F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C6A72-E996-49FD-964C-D1E96ABAE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95734-2C56-48EA-9521-09EF36EC3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DA1DD-A321-4CFC-AF2B-B390A49E1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83273-E11F-405A-B2F6-0B7B14F1E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121AF-797D-4F5B-A7F5-52D01F5B1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99381-280A-4D9E-A24E-278F45461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38D01-522F-41E4-8667-0C6B08D8E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3376A-F974-4483-AB75-4CB8FF136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80F90-9307-4FD2-BC44-E16208A8E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CFD01-CCA0-4DFE-8F17-0DB08B9DE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71672-F9B3-4844-8AD1-37244C13E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594E4-35D5-44BD-BB25-945FEA050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54ED4-D2C7-41B7-A5E6-1C21A1BE5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A07C9-1F9F-497A-A5AC-A84F85517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48D0A-710F-4A29-A26C-9415F702E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11CAAB-EECD-4604-9738-6F6D6313F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619841-21A8-4CEE-BFC5-2370A268F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1EBC9D-2FD3-499D-9D3E-E29CECCDF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E314F4-9045-4383-8ACB-16182505B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CE4160-9FE7-4028-BDB6-E49EA26AD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F5D11-419F-4349-A927-9BE7C237B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447F51-FFA2-45B9-960A-2A17DBB3C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3219D0-CBF6-45C5-B255-7BB7A34BF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996B17-DBB5-44FB-997C-CA1A75037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D879CD-9DA4-40FD-84B9-0E79352D0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A7D036-3D48-4851-919A-1DC579DEF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095832-A761-466B-8B06-3AF9BB107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DCC562-A3A0-45A2-8F2A-B498BF604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28750-3A03-4BD7-9816-F7974F20B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B0A82-1183-4420-997B-B33E24B20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8F363-1C75-4779-A657-7294B5617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C84D5-FAEA-403C-9BDE-2043D217A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E5C57-2254-404B-9AA0-F0A198079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3352D-CBDE-4950-93FB-059AD4D4B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1920" y="1371600"/>
            <a:ext cx="8229240" cy="182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CA" sz="4800" spc="-1" strike="noStrike" cap="all">
                <a:solidFill>
                  <a:srgbClr val="000000"/>
                </a:solidFill>
                <a:latin typeface="Lucida Sans"/>
              </a:rPr>
              <a:t>Click to edit Master title style</a:t>
            </a:r>
            <a:endParaRPr b="0" lang="en-US" sz="4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41664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924680" y="641664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4E82422-1ECA-4D82-979E-4AA52F3A113D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CA" sz="4100" spc="-1" strike="noStrike">
                <a:solidFill>
                  <a:srgbClr val="000000"/>
                </a:solidFill>
                <a:latin typeface="Lucida Sans"/>
              </a:rPr>
              <a:t>Click to edit Master title style</a:t>
            </a:r>
            <a:endParaRPr b="0" lang="en-US" sz="41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70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548640" indent="-41148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en-CA" sz="2800" spc="-1" strike="noStrike">
                <a:solidFill>
                  <a:srgbClr val="ffffff"/>
                </a:solidFill>
                <a:latin typeface="Book Antiqua"/>
              </a:rPr>
              <a:t>Click to edit Master text style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680" indent="-28332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80000"/>
              <a:buFont typeface="Wingdings 2" charset="2"/>
              <a:buChar char=""/>
            </a:pPr>
            <a:r>
              <a:rPr b="0" lang="en-CA" sz="2400" spc="-1" strike="noStrike">
                <a:solidFill>
                  <a:srgbClr val="ffffff"/>
                </a:solidFill>
                <a:latin typeface="Book Antiqua"/>
              </a:rPr>
              <a:t>Second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1134000" indent="-228600">
              <a:lnSpc>
                <a:spcPct val="100000"/>
              </a:lnSpc>
              <a:spcBef>
                <a:spcPts val="439"/>
              </a:spcBef>
              <a:buClr>
                <a:srgbClr val="ffffff"/>
              </a:buClr>
              <a:buSzPct val="95000"/>
              <a:buFont typeface="Wingdings" charset="2"/>
              <a:buChar char=""/>
            </a:pPr>
            <a:r>
              <a:rPr b="0" lang="en-CA" sz="2200" spc="-1" strike="noStrike">
                <a:solidFill>
                  <a:srgbClr val="ffffff"/>
                </a:solidFill>
                <a:latin typeface="Book Antiqua"/>
              </a:rPr>
              <a:t>Third level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3" marL="1353240" indent="-18288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Wingdings 3" charset="2"/>
              <a:buChar char=""/>
            </a:pPr>
            <a:r>
              <a:rPr b="0" lang="en-CA" sz="2000" spc="-1" strike="noStrike">
                <a:solidFill>
                  <a:srgbClr val="ffffff"/>
                </a:solidFill>
                <a:latin typeface="Book Antiqua"/>
              </a:rPr>
              <a:t>Fourth level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4" marL="1545480" indent="-18288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Wingdings 2" charset="2"/>
              <a:buChar char=""/>
            </a:pPr>
            <a:r>
              <a:rPr b="0" lang="en-CA" sz="2000" spc="-1" strike="noStrike">
                <a:solidFill>
                  <a:srgbClr val="ffffff"/>
                </a:solidFill>
                <a:latin typeface="Book Antiqua"/>
              </a:rPr>
              <a:t>Fifth level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41664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680" y="641664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6DD5A50-E2A9-49BD-86C1-01B0CF2F9980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dt" idx="7"/>
          </p:nvPr>
        </p:nvSpPr>
        <p:spPr>
          <a:xfrm>
            <a:off x="457200" y="641664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ftr" idx="8"/>
          </p:nvPr>
        </p:nvSpPr>
        <p:spPr>
          <a:xfrm>
            <a:off x="3124080" y="641664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9"/>
          </p:nvPr>
        </p:nvSpPr>
        <p:spPr>
          <a:xfrm>
            <a:off x="7924680" y="641664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A716FB3-748F-446A-B8CD-1A7A8B2263EC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Click to edit the title text format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21920" y="1371600"/>
            <a:ext cx="8229240" cy="182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800" spc="-1" strike="noStrike" cap="all">
                <a:solidFill>
                  <a:srgbClr val="000000"/>
                </a:solidFill>
                <a:latin typeface="Lucida Sans"/>
              </a:rPr>
              <a:t>Design Skills</a:t>
            </a:r>
            <a:endParaRPr b="0" lang="en-US" sz="4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2250720" y="4876920"/>
            <a:ext cx="6400440" cy="175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A: Shreya Raw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000000"/>
                </a:solidFill>
                <a:latin typeface="Lucida Sans"/>
              </a:rPr>
              <a:t>Solution</a:t>
            </a:r>
            <a:endParaRPr b="0" lang="en-US" sz="41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70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48" name="Picture 3" descr=""/>
          <p:cNvPicPr/>
          <p:nvPr/>
        </p:nvPicPr>
        <p:blipFill>
          <a:blip r:embed="rId1"/>
          <a:stretch/>
        </p:blipFill>
        <p:spPr>
          <a:xfrm>
            <a:off x="2514600" y="1600200"/>
            <a:ext cx="4343040" cy="470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000000"/>
                </a:solidFill>
                <a:latin typeface="Lucida Sans"/>
              </a:rPr>
              <a:t>Problem Statement 2</a:t>
            </a:r>
            <a:endParaRPr b="0" lang="en-US" sz="41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70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51" name="Picture 3" descr=""/>
          <p:cNvPicPr/>
          <p:nvPr/>
        </p:nvPicPr>
        <p:blipFill>
          <a:blip r:embed="rId1"/>
          <a:stretch/>
        </p:blipFill>
        <p:spPr>
          <a:xfrm>
            <a:off x="1066680" y="2057400"/>
            <a:ext cx="6851160" cy="297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"/>
          <p:cNvPicPr/>
          <p:nvPr/>
        </p:nvPicPr>
        <p:blipFill>
          <a:blip r:embed="rId1"/>
          <a:stretch/>
        </p:blipFill>
        <p:spPr>
          <a:xfrm>
            <a:off x="30600" y="0"/>
            <a:ext cx="6186600" cy="68576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4" descr=""/>
          <p:cNvPicPr/>
          <p:nvPr/>
        </p:nvPicPr>
        <p:blipFill>
          <a:blip r:embed="rId2"/>
          <a:stretch/>
        </p:blipFill>
        <p:spPr>
          <a:xfrm>
            <a:off x="3124080" y="4648320"/>
            <a:ext cx="6019560" cy="220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000000"/>
                </a:solidFill>
                <a:latin typeface="Lucida Sans"/>
              </a:rPr>
              <a:t>Use-Cases:</a:t>
            </a:r>
            <a:r>
              <a:rPr b="1" lang="en-US" sz="41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1" lang="en-US" sz="4100" spc="-1" strike="noStrike">
                <a:solidFill>
                  <a:srgbClr val="000000"/>
                </a:solidFill>
                <a:latin typeface="Lucida Sans"/>
              </a:rPr>
              <a:t>	</a:t>
            </a:r>
            <a:endParaRPr b="0" lang="en-US" sz="41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70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548640" indent="-41148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 use case is a description of a system’s behavior as it responds to a request that originates from outside of that system (Usually user)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In other words, a use case describes "who" can do "what" with the system in question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87000"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000000"/>
                </a:solidFill>
                <a:latin typeface="Lucida Sans"/>
              </a:rPr>
              <a:t>UML (Unified Modeling Language)</a:t>
            </a:r>
            <a:endParaRPr b="0" lang="en-US" sz="41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70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548640" indent="-41148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 use case diagram in the Unified Modeling Language (UML) is a type of behavioral diagram defined by and created from a Use-case analysis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Its purpose is to present a graphical overview of the functionality provided by a system in terms of actors, their goals (represented as use cases)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87000"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000000"/>
                </a:solidFill>
                <a:latin typeface="Lucida Sans"/>
              </a:rPr>
              <a:t>Components of a Use-Case Diagram</a:t>
            </a:r>
            <a:endParaRPr b="0" lang="en-US" sz="41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70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ctor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Use-Cas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000000"/>
                </a:solidFill>
                <a:latin typeface="Lucida Sans"/>
              </a:rPr>
              <a:t>Actors</a:t>
            </a:r>
            <a:endParaRPr b="0" lang="en-US" sz="41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70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548640" indent="-41148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n actor specifies a role that some external entity adopts when interacting with the system directly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It may represent a role played by: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* a user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* another system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* a piece of hardware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ctors may be both at input and output ends of a use case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000000"/>
                </a:solidFill>
                <a:latin typeface="Lucida Sans"/>
              </a:rPr>
              <a:t>Actors</a:t>
            </a:r>
            <a:endParaRPr b="0" lang="en-US" sz="41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70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35" name="Picture 3" descr=""/>
          <p:cNvPicPr/>
          <p:nvPr/>
        </p:nvPicPr>
        <p:blipFill>
          <a:blip r:embed="rId1"/>
          <a:stretch/>
        </p:blipFill>
        <p:spPr>
          <a:xfrm>
            <a:off x="1981080" y="2895480"/>
            <a:ext cx="5205240" cy="164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000000"/>
                </a:solidFill>
                <a:latin typeface="Lucida Sans"/>
              </a:rPr>
              <a:t>Use-Case</a:t>
            </a:r>
            <a:endParaRPr b="0" lang="en-US" sz="41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70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548640" indent="-41148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Describes all the services required or performed by the actor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38" name="Picture 3" descr=""/>
          <p:cNvPicPr/>
          <p:nvPr/>
        </p:nvPicPr>
        <p:blipFill>
          <a:blip r:embed="rId1"/>
          <a:stretch/>
        </p:blipFill>
        <p:spPr>
          <a:xfrm>
            <a:off x="2610000" y="2753280"/>
            <a:ext cx="3924000" cy="35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000000"/>
                </a:solidFill>
                <a:latin typeface="Lucida Sans"/>
              </a:rPr>
              <a:t>Use-Case Name</a:t>
            </a:r>
            <a:endParaRPr b="0" lang="en-US" sz="41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70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548640" indent="-41148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Use Case Names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680" indent="-28332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80000"/>
              <a:buFont typeface="Wingdings 2" charset="2"/>
              <a:buChar char=""/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Written in a ova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680" indent="-28332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80000"/>
              <a:buFont typeface="Wingdings 2" charset="2"/>
              <a:buChar char=""/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Simple Name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1" name="Oval 3"/>
          <p:cNvSpPr/>
          <p:nvPr/>
        </p:nvSpPr>
        <p:spPr>
          <a:xfrm>
            <a:off x="2971800" y="3733920"/>
            <a:ext cx="2514240" cy="837720"/>
          </a:xfrm>
          <a:prstGeom prst="ellipse">
            <a:avLst/>
          </a:prstGeom>
          <a:gradFill rotWithShape="0">
            <a:gsLst>
              <a:gs pos="0">
                <a:srgbClr val="a49451"/>
              </a:gs>
              <a:gs pos="100000">
                <a:srgbClr val="d5c489"/>
              </a:gs>
            </a:gsLst>
            <a:lin ang="8346000"/>
          </a:gradFill>
          <a:ln>
            <a:solidFill>
              <a:srgbClr val="998846"/>
            </a:solidFill>
            <a:round/>
          </a:ln>
          <a:effectLst>
            <a:outerShdw blurRad="190440" dir="2700000" dist="228593" rotWithShape="0" sy="90000">
              <a:srgbClr val="000000">
                <a:alpha val="2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Book Antiqua"/>
            </a:endParaRPr>
          </a:p>
        </p:txBody>
      </p:sp>
      <p:sp>
        <p:nvSpPr>
          <p:cNvPr id="142" name="TextBox 4"/>
          <p:cNvSpPr/>
          <p:nvPr/>
        </p:nvSpPr>
        <p:spPr>
          <a:xfrm>
            <a:off x="3200400" y="3930120"/>
            <a:ext cx="20570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Register Stud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000000"/>
                </a:solidFill>
                <a:latin typeface="Lucida Sans"/>
              </a:rPr>
              <a:t>Problem Statement 1</a:t>
            </a:r>
            <a:r>
              <a:rPr b="1" lang="en-US" sz="4100" spc="-1" strike="noStrike">
                <a:solidFill>
                  <a:srgbClr val="000000"/>
                </a:solidFill>
                <a:latin typeface="Lucida Sans"/>
              </a:rPr>
              <a:t>	</a:t>
            </a:r>
            <a:endParaRPr b="0" lang="en-US" sz="41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70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45" name="Picture 3" descr=""/>
          <p:cNvPicPr/>
          <p:nvPr/>
        </p:nvPicPr>
        <p:blipFill>
          <a:blip r:embed="rId1"/>
          <a:stretch/>
        </p:blipFill>
        <p:spPr>
          <a:xfrm>
            <a:off x="1200240" y="2394000"/>
            <a:ext cx="6743520" cy="232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Apex">
  <a:themeElements>
    <a:clrScheme name="Apex">
      <a:dk1>
        <a:srgbClr val="000000"/>
      </a:dk1>
      <a:lt1>
        <a:srgbClr val="ffffff"/>
      </a:lt1>
      <a:dk2>
        <a:srgbClr val="69676d"/>
      </a:dk2>
      <a:lt2>
        <a:srgbClr val="c9c2d1"/>
      </a:lt2>
      <a:accent1>
        <a:srgbClr val="ceb966"/>
      </a:accent1>
      <a:accent2>
        <a:srgbClr val="9cb084"/>
      </a:accent2>
      <a:accent3>
        <a:srgbClr val="6bb1c9"/>
      </a:accent3>
      <a:accent4>
        <a:srgbClr val="6585cf"/>
      </a:accent4>
      <a:accent5>
        <a:srgbClr val="7e6bc9"/>
      </a:accent5>
      <a:accent6>
        <a:srgbClr val="a379bb"/>
      </a:accent6>
      <a:hlink>
        <a:srgbClr val="410082"/>
      </a:hlink>
      <a:folHlink>
        <a:srgbClr val="93296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Apex">
  <a:themeElements>
    <a:clrScheme name="Apex">
      <a:dk1>
        <a:srgbClr val="000000"/>
      </a:dk1>
      <a:lt1>
        <a:srgbClr val="ffffff"/>
      </a:lt1>
      <a:dk2>
        <a:srgbClr val="69676d"/>
      </a:dk2>
      <a:lt2>
        <a:srgbClr val="c9c2d1"/>
      </a:lt2>
      <a:accent1>
        <a:srgbClr val="ceb966"/>
      </a:accent1>
      <a:accent2>
        <a:srgbClr val="9cb084"/>
      </a:accent2>
      <a:accent3>
        <a:srgbClr val="6bb1c9"/>
      </a:accent3>
      <a:accent4>
        <a:srgbClr val="6585cf"/>
      </a:accent4>
      <a:accent5>
        <a:srgbClr val="7e6bc9"/>
      </a:accent5>
      <a:accent6>
        <a:srgbClr val="a379bb"/>
      </a:accent6>
      <a:hlink>
        <a:srgbClr val="410082"/>
      </a:hlink>
      <a:folHlink>
        <a:srgbClr val="93296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Apex">
  <a:themeElements>
    <a:clrScheme name="Apex">
      <a:dk1>
        <a:srgbClr val="000000"/>
      </a:dk1>
      <a:lt1>
        <a:srgbClr val="ffffff"/>
      </a:lt1>
      <a:dk2>
        <a:srgbClr val="69676d"/>
      </a:dk2>
      <a:lt2>
        <a:srgbClr val="c9c2d1"/>
      </a:lt2>
      <a:accent1>
        <a:srgbClr val="ceb966"/>
      </a:accent1>
      <a:accent2>
        <a:srgbClr val="9cb084"/>
      </a:accent2>
      <a:accent3>
        <a:srgbClr val="6bb1c9"/>
      </a:accent3>
      <a:accent4>
        <a:srgbClr val="6585cf"/>
      </a:accent4>
      <a:accent5>
        <a:srgbClr val="7e6bc9"/>
      </a:accent5>
      <a:accent6>
        <a:srgbClr val="a379bb"/>
      </a:accent6>
      <a:hlink>
        <a:srgbClr val="410082"/>
      </a:hlink>
      <a:folHlink>
        <a:srgbClr val="93296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Apex.thmx</Template>
  <TotalTime>38</TotalTime>
  <Application>LibreOffice/7.4.7.2$Linux_X86_64 LibreOffice_project/40$Build-2</Application>
  <AppVersion>15.0000</AppVersion>
  <Words>230</Words>
  <Paragraphs>33</Paragraphs>
  <Company>University of Calgary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30T15:58:53Z</dcterms:created>
  <dc:creator>Shreya Rawal</dc:creator>
  <dc:description/>
  <dc:language>en-US</dc:language>
  <cp:lastModifiedBy>Shreya Rawal</cp:lastModifiedBy>
  <dcterms:modified xsi:type="dcterms:W3CDTF">2009-03-30T16:37:04Z</dcterms:modified>
  <cp:revision>10</cp:revision>
  <dc:subject/>
  <dc:title>Design Skill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On-screen Show (4:3)</vt:lpwstr>
  </property>
  <property fmtid="{D5CDD505-2E9C-101B-9397-08002B2CF9AE}" pid="3" name="Slides">
    <vt:r8>12</vt:r8>
  </property>
</Properties>
</file>